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F31-8DB8-4DB3-946C-BA79FBEF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E9B-85CF-4148-B17B-1EBA70C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872-F128-47A3-A9EB-A3C4364F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927-4271-4EA6-95E1-118AB2BA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081-FF83-46A5-B676-411FA45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41C-AFDE-4055-8A60-BC4F4C5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E90-E395-4D79-B873-2E7A2DD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41C-B919-4134-9A62-725163C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BA2-633D-4A22-9D8E-85E86C4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3AE-743E-4942-B70D-ECF0425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76E-3810-4008-A72B-C5BB129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5A3-DA2A-415F-9CA7-D6236BC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B96E-2CAE-4A98-9BA6-A5F94BEF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ien Encounters"/>
              </a:rPr>
              <a:t>Overview of photosynthesis and re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19720"/>
            <a:ext cx="1905120" cy="99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rlin Sans FB Demi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4038480"/>
            <a:ext cx="1666800" cy="13716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 Demi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 Demi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419720"/>
            <a:ext cx="19047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 Demi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71468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00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276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RADIAN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562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ATP(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Rockwell Extra Bold"/>
              </a:rPr>
              <a:t>EQUATION</a:t>
            </a:r>
            <a:r>
              <a:rPr b="1" lang="en-US" sz="4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Rockwell Extra Bold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US" sz="4400" spc="-1" strike="noStrike">
                <a:solidFill>
                  <a:srgbClr val="00cc00"/>
                </a:solidFill>
                <a:latin typeface="Rockwell Extra Bold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290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Rockwell Extra Bol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290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Rockwell Extra Bold"/>
              </a:rPr>
              <a:t>6H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Rockwell Extra Bold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Rockwell Extra Bold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429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Rockwell Extra Bold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505320"/>
            <a:ext cx="976320" cy="409320"/>
          </a:xfrm>
          <a:prstGeom prst="rightArrow">
            <a:avLst>
              <a:gd name="adj1" fmla="val 50000"/>
              <a:gd name="adj2" fmla="val 596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429000"/>
            <a:ext cx="213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C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6</a:t>
            </a: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12</a:t>
            </a: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34290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Rockwell Extra Bold"/>
              </a:rPr>
              <a:t>6O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Rockwell Extra Bol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038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5720" y="2971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8400" y="4114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4080" y="2971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Rockwell Extra Bold"/>
              </a:rPr>
              <a:t>EQUATION FOR</a:t>
            </a:r>
            <a:r>
              <a:rPr b="1" lang="en-US" sz="4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Rockwell Extra Bold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352680"/>
            <a:ext cx="213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C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6</a:t>
            </a: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12</a:t>
            </a:r>
            <a:r>
              <a:rPr b="1" lang="en-US" sz="2800" spc="-1" strike="noStrike">
                <a:solidFill>
                  <a:srgbClr val="660066"/>
                </a:solidFill>
                <a:latin typeface="Rockwell Extra Bold"/>
              </a:rPr>
              <a:t>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Rockwell Extra Bold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3526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Rockwell Extra Bold"/>
              </a:rPr>
              <a:t>6O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Rockwell Extra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4038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429000"/>
            <a:ext cx="976320" cy="409680"/>
          </a:xfrm>
          <a:prstGeom prst="rightArrow">
            <a:avLst>
              <a:gd name="adj1" fmla="val 50000"/>
              <a:gd name="adj2" fmla="val 595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33526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Rockwell Extra Bol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5146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3526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Rockwell Extra Bold"/>
              </a:rPr>
              <a:t>6H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Rockwell Extra Bold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Rockwell Extra Bold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352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Rockwell Extra Bold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1343160" cy="1478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4952880"/>
            <a:ext cx="1245960" cy="1117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13:15Z</dcterms:created>
  <dc:creator>W.C.S.D.</dc:creator>
  <dc:description/>
  <dc:language>en-US</dc:language>
  <cp:lastModifiedBy>Jefferson County Schools</cp:lastModifiedBy>
  <dcterms:modified xsi:type="dcterms:W3CDTF">2002-03-04T14:14:14Z</dcterms:modified>
  <cp:revision>4</cp:revision>
  <dc:subject/>
  <dc:title>Overview of photosynthesis and respiration</dc:title>
</cp:coreProperties>
</file>